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6000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1200" spc="-1" strike="noStrike">
                <a:solidFill>
                  <a:srgbClr val="009bd2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D84B45-4027-468B-B5F3-88850ECCFAE7}" type="slidenum">
              <a:rPr b="0" lang="fr-FR" sz="1200" spc="-1" strike="noStrike">
                <a:solidFill>
                  <a:srgbClr val="009bd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9bd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pic>
        <p:nvPicPr>
          <p:cNvPr id="118" name="Picture 4" descr="C:\Documents and Settings\10005877\Desktop\IDLM\SUPPORT\logo kit\ANNONCER.BMP"/>
          <p:cNvPicPr/>
          <p:nvPr/>
        </p:nvPicPr>
        <p:blipFill>
          <a:blip r:embed="rId1"/>
          <a:stretch/>
        </p:blipFill>
        <p:spPr>
          <a:xfrm>
            <a:off x="198360" y="5270400"/>
            <a:ext cx="73512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007640" y="4465800"/>
            <a:ext cx="536436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pic>
        <p:nvPicPr>
          <p:cNvPr id="121" name="Picture 4" descr="C:\Documents and Settings\10005877\Desktop\IDLM\SUPPORT\logo kit\ANNONCER.BMP"/>
          <p:cNvPicPr/>
          <p:nvPr/>
        </p:nvPicPr>
        <p:blipFill>
          <a:blip r:embed="rId1"/>
          <a:stretch/>
        </p:blipFill>
        <p:spPr>
          <a:xfrm>
            <a:off x="198360" y="5270400"/>
            <a:ext cx="73512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07640" y="4465800"/>
            <a:ext cx="5364360" cy="4317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8049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pic>
        <p:nvPicPr>
          <p:cNvPr id="124" name="Picture 4" descr="C:\Documents and Settings\10005877\Desktop\IDLM\SUPPORT\logo kit\ANNONCER.BMP"/>
          <p:cNvPicPr/>
          <p:nvPr/>
        </p:nvPicPr>
        <p:blipFill>
          <a:blip r:embed="rId1"/>
          <a:stretch/>
        </p:blipFill>
        <p:spPr>
          <a:xfrm>
            <a:off x="198360" y="5270400"/>
            <a:ext cx="73512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007640" y="4465800"/>
            <a:ext cx="5364360" cy="4317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8049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pic>
        <p:nvPicPr>
          <p:cNvPr id="127" name="Picture 4" descr="C:\Documents and Settings\10005877\Desktop\IDLM\SUPPORT\logo kit\ANNONCER.BMP"/>
          <p:cNvPicPr/>
          <p:nvPr/>
        </p:nvPicPr>
        <p:blipFill>
          <a:blip r:embed="rId1"/>
          <a:stretch/>
        </p:blipFill>
        <p:spPr>
          <a:xfrm>
            <a:off x="198360" y="5270400"/>
            <a:ext cx="735120" cy="476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07640" y="4465800"/>
            <a:ext cx="5364360" cy="4317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8049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pic>
        <p:nvPicPr>
          <p:cNvPr id="130" name="Picture 4" descr="C:\Documents and Settings\10005877\Desktop\IDLM\SUPPORT\logo kit\ANNONCER.BMP"/>
          <p:cNvPicPr/>
          <p:nvPr/>
        </p:nvPicPr>
        <p:blipFill>
          <a:blip r:embed="rId1"/>
          <a:stretch/>
        </p:blipFill>
        <p:spPr>
          <a:xfrm>
            <a:off x="198360" y="5270400"/>
            <a:ext cx="735120" cy="476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07640" y="4465800"/>
            <a:ext cx="5364360" cy="4317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8049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pic>
        <p:nvPicPr>
          <p:cNvPr id="133" name="Picture 4" descr="C:\Documents and Settings\10005877\Desktop\IDLM\SUPPORT\logo kit\ANNONCER.BMP"/>
          <p:cNvPicPr/>
          <p:nvPr/>
        </p:nvPicPr>
        <p:blipFill>
          <a:blip r:embed="rId1"/>
          <a:stretch/>
        </p:blipFill>
        <p:spPr>
          <a:xfrm>
            <a:off x="198360" y="5270400"/>
            <a:ext cx="73512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7640" y="4465800"/>
            <a:ext cx="5364360" cy="4317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8049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168-4AE6-4F07-A384-7E50B95B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5F4-090A-4F80-9E80-AA75B26A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5E6-C557-472F-B180-C4F392C9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3A9-732F-400C-84CD-C4AD556D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F43-A480-4BD7-B17E-17490931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E09-18C9-4416-B063-17319939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F87-DA80-423E-A804-F1D18D6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D9A-239F-4167-B953-935E1EA2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7FC-91B9-4C90-BB86-C13B82A5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462-D902-48D1-BB15-7A790650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48D-CF06-4478-8D65-5CCBE29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7E0-C194-4393-AD75-443AE66C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F141-BC33-403F-B3B8-2899C2C69492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9/26</a:t>
            </a:fld>
            <a:endParaRPr b="0" lang="en-US" sz="12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ahoma"/>
              </a:rPr>
              <a:t>Page </a:t>
            </a:r>
            <a:fld id="{58A924B5-093E-476D-8CBD-2CFD5270340A}" type="slidenum">
              <a:rPr b="0" lang="fr-FR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9bd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SignatureTACTIC"/>
          <p:cNvPicPr/>
          <p:nvPr/>
        </p:nvPicPr>
        <p:blipFill>
          <a:blip r:embed="rId1"/>
          <a:stretch/>
        </p:blipFill>
        <p:spPr>
          <a:xfrm>
            <a:off x="6012000" y="5589720"/>
            <a:ext cx="2919240" cy="93168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2"/>
          <p:cNvSpPr/>
          <p:nvPr/>
        </p:nvSpPr>
        <p:spPr>
          <a:xfrm>
            <a:off x="3894120" y="5468760"/>
            <a:ext cx="185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pic>
        <p:nvPicPr>
          <p:cNvPr id="50" name="Image 4" descr=""/>
          <p:cNvPicPr/>
          <p:nvPr/>
        </p:nvPicPr>
        <p:blipFill>
          <a:blip r:embed="rId2"/>
          <a:stretch/>
        </p:blipFill>
        <p:spPr>
          <a:xfrm>
            <a:off x="1979640" y="855720"/>
            <a:ext cx="721368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"/>
          <p:cNvPicPr/>
          <p:nvPr/>
        </p:nvPicPr>
        <p:blipFill>
          <a:blip r:embed="rId3"/>
          <a:stretch/>
        </p:blipFill>
        <p:spPr>
          <a:xfrm>
            <a:off x="2124000" y="1700280"/>
            <a:ext cx="7344000" cy="3456000"/>
          </a:xfrm>
          <a:prstGeom prst="rect">
            <a:avLst/>
          </a:prstGeom>
          <a:ln w="0">
            <a:noFill/>
          </a:ln>
        </p:spPr>
      </p:pic>
      <p:pic>
        <p:nvPicPr>
          <p:cNvPr id="52" name="Image 2" descr="fond-tac tic3.png"/>
          <p:cNvPicPr/>
          <p:nvPr/>
        </p:nvPicPr>
        <p:blipFill>
          <a:blip r:embed="rId4"/>
          <a:stretch/>
        </p:blipFill>
        <p:spPr>
          <a:xfrm>
            <a:off x="-324000" y="0"/>
            <a:ext cx="375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2268360" y="2362320"/>
            <a:ext cx="719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bd2"/>
                </a:solidFill>
                <a:latin typeface="Tahoma"/>
              </a:rPr>
              <a:t>La planification annuelle en Comité de Direction</a:t>
            </a:r>
            <a:endParaRPr b="0" lang="en-US" sz="3200" spc="-1" strike="noStrike">
              <a:solidFill>
                <a:srgbClr val="009bd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9" descr="fond tactic2.png"/>
          <p:cNvPicPr/>
          <p:nvPr/>
        </p:nvPicPr>
        <p:blipFill>
          <a:blip r:embed="rId1"/>
          <a:stretch/>
        </p:blipFill>
        <p:spPr>
          <a:xfrm rot="21078000">
            <a:off x="-1198440" y="-203040"/>
            <a:ext cx="3132000" cy="7519680"/>
          </a:xfrm>
          <a:prstGeom prst="rect">
            <a:avLst/>
          </a:prstGeom>
          <a:ln w="0">
            <a:noFill/>
          </a:ln>
        </p:spPr>
      </p:pic>
      <p:pic>
        <p:nvPicPr>
          <p:cNvPr id="55" name="Image 6" descr="ombre.png"/>
          <p:cNvPicPr/>
          <p:nvPr/>
        </p:nvPicPr>
        <p:blipFill>
          <a:blip r:embed="rId2"/>
          <a:stretch/>
        </p:blipFill>
        <p:spPr>
          <a:xfrm>
            <a:off x="-289080" y="620640"/>
            <a:ext cx="9541080" cy="1408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-181080" y="115920"/>
            <a:ext cx="936000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bd2"/>
                </a:solidFill>
                <a:latin typeface="Tahoma"/>
              </a:rPr>
              <a:t>L’enjeu d’une bonne planification : Allouer les ressources au bon moment</a:t>
            </a:r>
            <a:endParaRPr b="0" lang="en-US" sz="36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116000" y="98100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pic>
        <p:nvPicPr>
          <p:cNvPr id="58" name="Picture 4" descr="IconeTACTIC"/>
          <p:cNvPicPr/>
          <p:nvPr/>
        </p:nvPicPr>
        <p:blipFill>
          <a:blip r:embed="rId3"/>
          <a:stretch/>
        </p:blipFill>
        <p:spPr>
          <a:xfrm>
            <a:off x="8532720" y="6165720"/>
            <a:ext cx="534960" cy="595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95280" y="6597720"/>
            <a:ext cx="11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ge </a:t>
            </a:r>
            <a:fld id="{B9FA4AFA-3505-4AC7-9640-6701023133BF}" type="slidenum">
              <a:rPr b="1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5254560"/>
            <a:ext cx="648036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9900"/>
                </a:solidFill>
                <a:latin typeface="Tahoma"/>
              </a:rPr>
              <a:t>Double constat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</a:rPr>
              <a:t> :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</a:rPr>
              <a:t>difficulté à allouer les</a:t>
            </a:r>
            <a:r>
              <a:rPr b="1" lang="fr-FR" sz="1600" spc="-1" strike="noStrike">
                <a:solidFill>
                  <a:srgbClr val="009bd2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</a:rPr>
              <a:t>ressources suffisantes au moment où l’activité culmine </a:t>
            </a:r>
            <a:r>
              <a:rPr b="1" lang="fr-FR" sz="1600" spc="-1" strike="noStrike">
                <a:solidFill>
                  <a:srgbClr val="009bd2"/>
                </a:solidFill>
                <a:latin typeface="Tahoma"/>
              </a:rPr>
              <a:t>ET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</a:rPr>
              <a:t> à réduire la consommation de ressources au moment où l’activité est basse.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9900"/>
                </a:solidFill>
                <a:latin typeface="Tahoma"/>
              </a:rPr>
              <a:t>Un objectif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</a:rPr>
              <a:t> :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</a:rPr>
              <a:t>tendre vers une courbe des ressources qui se rapproche de celle de l’activité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268360" y="1341360"/>
            <a:ext cx="604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Tahoma"/>
              </a:rPr>
              <a:t>La disponibilité à la vente, notre priorité n°1</a:t>
            </a: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56000" y="1690560"/>
            <a:ext cx="5194080" cy="3465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27640" y="191628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Ex : Peinture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9" descr="fond tactic2.png"/>
          <p:cNvPicPr/>
          <p:nvPr/>
        </p:nvPicPr>
        <p:blipFill>
          <a:blip r:embed="rId1"/>
          <a:stretch/>
        </p:blipFill>
        <p:spPr>
          <a:xfrm rot="21078000">
            <a:off x="-1189080" y="0"/>
            <a:ext cx="3132360" cy="7520040"/>
          </a:xfrm>
          <a:prstGeom prst="rect">
            <a:avLst/>
          </a:prstGeom>
          <a:ln w="0">
            <a:noFill/>
          </a:ln>
        </p:spPr>
      </p:pic>
      <p:pic>
        <p:nvPicPr>
          <p:cNvPr id="65" name="Image 6" descr="ombre.png"/>
          <p:cNvPicPr/>
          <p:nvPr/>
        </p:nvPicPr>
        <p:blipFill>
          <a:blip r:embed="rId2"/>
          <a:stretch/>
        </p:blipFill>
        <p:spPr>
          <a:xfrm>
            <a:off x="1476360" y="0"/>
            <a:ext cx="7956720" cy="1407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0" y="-27000"/>
            <a:ext cx="917892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bd2"/>
                </a:solidFill>
                <a:latin typeface="Tahoma"/>
              </a:rPr>
              <a:t>La planification de nos ressources et  la démarche objectifs sont liées</a:t>
            </a:r>
            <a:endParaRPr b="0" lang="en-US" sz="36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042920" y="98100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pic>
        <p:nvPicPr>
          <p:cNvPr id="68" name="Picture 4" descr="IconeTACTIC"/>
          <p:cNvPicPr/>
          <p:nvPr/>
        </p:nvPicPr>
        <p:blipFill>
          <a:blip r:embed="rId3"/>
          <a:stretch/>
        </p:blipFill>
        <p:spPr>
          <a:xfrm>
            <a:off x="8532720" y="6165720"/>
            <a:ext cx="534960" cy="595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395280" y="6597720"/>
            <a:ext cx="11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ge </a:t>
            </a:r>
            <a:fld id="{CD2AB149-30E7-46AE-B765-FC1173F155E3}" type="slidenum">
              <a:rPr b="1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2164320"/>
            <a:ext cx="69138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9900"/>
                </a:solidFill>
                <a:latin typeface="Tahoma"/>
              </a:rPr>
              <a:t>Du 12 septembre au 25 octobre 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</a:rPr>
              <a:t>démarche préobj dans les régions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9900"/>
                </a:solidFill>
                <a:latin typeface="Tahoma"/>
              </a:rPr>
              <a:t>Du 26 octobre au 9 novembre 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</a:rPr>
              <a:t>consolidation pour matrice OBJ FP Et clôture du compte d’octobr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9900"/>
                </a:solidFill>
                <a:latin typeface="Tahoma"/>
              </a:rPr>
              <a:t>Le 10 novembre 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</a:rPr>
              <a:t>envoi des matrices OBJ FP aux CGM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9900"/>
                </a:solidFill>
                <a:latin typeface="Tahoma"/>
              </a:rPr>
              <a:t>Du 10 novembre au 15 novembre idéalement 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</a:rPr>
              <a:t>travail de la matrice OBJ FP par les CGM jusqu’aux objectifs par rayon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9900"/>
                </a:solidFill>
                <a:latin typeface="Tahoma"/>
              </a:rPr>
              <a:t>Du 15 novembre idéalement au 30 novembre 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</a:rPr>
              <a:t>planification annuelle sur Tac tic avec toutes les données nécessaires à sa construction (embauches, renforts, etc…)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9" descr="fond tactic2.png"/>
          <p:cNvPicPr/>
          <p:nvPr/>
        </p:nvPicPr>
        <p:blipFill>
          <a:blip r:embed="rId1"/>
          <a:stretch/>
        </p:blipFill>
        <p:spPr>
          <a:xfrm rot="21078000">
            <a:off x="-1189080" y="0"/>
            <a:ext cx="3132360" cy="7520040"/>
          </a:xfrm>
          <a:prstGeom prst="rect">
            <a:avLst/>
          </a:prstGeom>
          <a:ln w="0">
            <a:noFill/>
          </a:ln>
        </p:spPr>
      </p:pic>
      <p:pic>
        <p:nvPicPr>
          <p:cNvPr id="72" name="Image 6" descr="ombre.png"/>
          <p:cNvPicPr/>
          <p:nvPr/>
        </p:nvPicPr>
        <p:blipFill>
          <a:blip r:embed="rId2"/>
          <a:stretch/>
        </p:blipFill>
        <p:spPr>
          <a:xfrm>
            <a:off x="-289080" y="765000"/>
            <a:ext cx="9541080" cy="1408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116000" y="98100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pic>
        <p:nvPicPr>
          <p:cNvPr id="74" name="Picture 4" descr="IconeTACTIC"/>
          <p:cNvPicPr/>
          <p:nvPr/>
        </p:nvPicPr>
        <p:blipFill>
          <a:blip r:embed="rId3"/>
          <a:stretch/>
        </p:blipFill>
        <p:spPr>
          <a:xfrm>
            <a:off x="8532720" y="6165720"/>
            <a:ext cx="534960" cy="595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95280" y="6597720"/>
            <a:ext cx="11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ge </a:t>
            </a:r>
            <a:fld id="{04A2EDD1-A90D-4FED-8B8E-FDCB84537A87}" type="slidenum">
              <a:rPr b="1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-216000" y="189000"/>
            <a:ext cx="936000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bd2"/>
                </a:solidFill>
                <a:latin typeface="Tahoma"/>
              </a:rPr>
              <a:t>Pourquoi une planification collective  en Comité de Direction ?</a:t>
            </a:r>
            <a:endParaRPr b="0" lang="en-US" sz="36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1916280"/>
            <a:ext cx="72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2379600"/>
            <a:ext cx="66247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009bd2"/>
                </a:solidFill>
                <a:latin typeface="Tahoma"/>
              </a:rPr>
              <a:t>Conseils du CGM et RPRH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</a:rPr>
              <a:t> sur :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la mutualisation des équipes, 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les activités fixes et modulables, 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les indicateurs,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les fonctionnalités de l’outil,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…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009bd2"/>
                </a:solidFill>
                <a:latin typeface="Tahoma"/>
              </a:rPr>
              <a:t>Entre CS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</a:rPr>
              <a:t> :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Echanges sur des conditions de succès et  problématiques communes,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Accompagnement d’un CS référent sur la planification sur Tac-tic (ex : CSSC)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547640" y="1557360"/>
            <a:ext cx="770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Tahoma"/>
              </a:rPr>
              <a:t> </a:t>
            </a:r>
            <a:r>
              <a:rPr b="1" lang="fr-FR" sz="2000" spc="-1" strike="noStrike">
                <a:solidFill>
                  <a:srgbClr val="669900"/>
                </a:solidFill>
                <a:latin typeface="Tahoma"/>
              </a:rPr>
              <a:t>Partage du sens autour de l’allocation des heures au bon moment et de la couverture de la charge.</a:t>
            </a: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9" descr="fond tactic2.png"/>
          <p:cNvPicPr/>
          <p:nvPr/>
        </p:nvPicPr>
        <p:blipFill>
          <a:blip r:embed="rId1"/>
          <a:stretch/>
        </p:blipFill>
        <p:spPr>
          <a:xfrm rot="21078000">
            <a:off x="-1332000" y="0"/>
            <a:ext cx="3132360" cy="7520040"/>
          </a:xfrm>
          <a:prstGeom prst="rect">
            <a:avLst/>
          </a:prstGeom>
          <a:ln w="0">
            <a:noFill/>
          </a:ln>
        </p:spPr>
      </p:pic>
      <p:pic>
        <p:nvPicPr>
          <p:cNvPr id="81" name="Image 6" descr="ombre.png"/>
          <p:cNvPicPr/>
          <p:nvPr/>
        </p:nvPicPr>
        <p:blipFill>
          <a:blip r:embed="rId2"/>
          <a:stretch/>
        </p:blipFill>
        <p:spPr>
          <a:xfrm>
            <a:off x="-289080" y="581040"/>
            <a:ext cx="9541080" cy="1407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116000" y="98100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pic>
        <p:nvPicPr>
          <p:cNvPr id="83" name="Picture 4" descr="IconeTACTIC"/>
          <p:cNvPicPr/>
          <p:nvPr/>
        </p:nvPicPr>
        <p:blipFill>
          <a:blip r:embed="rId3"/>
          <a:stretch/>
        </p:blipFill>
        <p:spPr>
          <a:xfrm>
            <a:off x="8532720" y="6165720"/>
            <a:ext cx="534960" cy="5954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395280" y="6597720"/>
            <a:ext cx="11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ge </a:t>
            </a:r>
            <a:fld id="{A41CC551-F95D-4CC4-B931-C31CC4508EEC}" type="slidenum">
              <a:rPr b="1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1280" y="44280"/>
            <a:ext cx="93250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bd2"/>
                </a:solidFill>
                <a:latin typeface="Tahoma"/>
              </a:rPr>
              <a:t>Une planification au rayon                     ou au secteur ?</a:t>
            </a:r>
            <a:endParaRPr b="0" lang="en-US" sz="36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1413000"/>
            <a:ext cx="748836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Tahoma"/>
              </a:rPr>
              <a:t>Pourquoi mutualiser ses rayons en secteur  ?</a:t>
            </a: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Pour n’avoir qu’une seule matrice Tac tic à travailler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Pour travailler la polyvalence secteur 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bd2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Tahoma"/>
              </a:rPr>
              <a:t>Comment créer de la polyvalence ?</a:t>
            </a:r>
            <a:r>
              <a:rPr b="1" lang="fr-FR" sz="2000" spc="-1" strike="noStrike">
                <a:solidFill>
                  <a:srgbClr val="009bd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Par des actions de formation : « Conseiller le(s) …»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Par transmission de compétences : échanges avec un référent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Par des actions de développement : « Vis ma vie… »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bd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Tahoma"/>
              </a:rPr>
              <a:t>Pour quels avantages ?</a:t>
            </a:r>
            <a:r>
              <a:rPr b="0" lang="fr-FR" sz="4000" spc="-1" strike="noStrike">
                <a:solidFill>
                  <a:srgbClr val="009bd2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Moins de contraintes en cas d’absences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Meilleure productivité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8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Diversité des missions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66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340000" y="1484280"/>
            <a:ext cx="63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  <a:p>
            <a:pPr marL="812880" indent="-81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-181080" y="1197000"/>
            <a:ext cx="2592360" cy="2808360"/>
          </a:xfrm>
          <a:prstGeom prst="irregularSeal1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Choix mutualisation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à communiquer 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à ta/ton RPRH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au plus tard la veille 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de la planif. Annuelle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our modifier la vue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Pléiades ORGDIR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9" descr="fond tactic2.png"/>
          <p:cNvPicPr/>
          <p:nvPr/>
        </p:nvPicPr>
        <p:blipFill>
          <a:blip r:embed="rId1"/>
          <a:stretch/>
        </p:blipFill>
        <p:spPr>
          <a:xfrm rot="21078000">
            <a:off x="-1189080" y="0"/>
            <a:ext cx="3132360" cy="7520040"/>
          </a:xfrm>
          <a:prstGeom prst="rect">
            <a:avLst/>
          </a:prstGeom>
          <a:ln w="0">
            <a:noFill/>
          </a:ln>
        </p:spPr>
      </p:pic>
      <p:pic>
        <p:nvPicPr>
          <p:cNvPr id="90" name="Image 6" descr="ombre.png"/>
          <p:cNvPicPr/>
          <p:nvPr/>
        </p:nvPicPr>
        <p:blipFill>
          <a:blip r:embed="rId2"/>
          <a:stretch/>
        </p:blipFill>
        <p:spPr>
          <a:xfrm>
            <a:off x="-289080" y="620640"/>
            <a:ext cx="9541080" cy="1408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116000" y="98100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pic>
        <p:nvPicPr>
          <p:cNvPr id="92" name="Picture 4" descr="IconeTACTIC"/>
          <p:cNvPicPr/>
          <p:nvPr/>
        </p:nvPicPr>
        <p:blipFill>
          <a:blip r:embed="rId3"/>
          <a:stretch/>
        </p:blipFill>
        <p:spPr>
          <a:xfrm>
            <a:off x="8532720" y="6165720"/>
            <a:ext cx="534960" cy="595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95280" y="6597720"/>
            <a:ext cx="11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ge </a:t>
            </a:r>
            <a:fld id="{1D4EB044-7F69-4B8A-BA35-3AF9B18441A3}" type="slidenum">
              <a:rPr b="1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181080" y="-100080"/>
            <a:ext cx="93250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bd2"/>
                </a:solidFill>
                <a:latin typeface="Tahoma"/>
              </a:rPr>
              <a:t>Favoriser le mode de management participatif : un</a:t>
            </a:r>
            <a:r>
              <a:rPr b="1" lang="fr-FR" sz="3600" spc="-1" strike="noStrike">
                <a:solidFill>
                  <a:srgbClr val="4f81bd"/>
                </a:solidFill>
                <a:latin typeface="Tahoma"/>
              </a:rPr>
              <a:t> </a:t>
            </a:r>
            <a:r>
              <a:rPr b="1" lang="fr-FR" sz="3600" spc="-1" strike="noStrike">
                <a:solidFill>
                  <a:srgbClr val="009bd2"/>
                </a:solidFill>
                <a:latin typeface="Tahoma"/>
              </a:rPr>
              <a:t>projet d’entreprise</a:t>
            </a:r>
            <a:endParaRPr b="0" lang="en-US" sz="36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95640" y="1844640"/>
            <a:ext cx="575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535120" y="2014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2046240"/>
            <a:ext cx="78501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Niv 1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: horaires en concertation avec le manager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Niv 2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: Plages créées par le manager et choisies par le collaborateur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Niv 3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: Plages créées par le collaborateur lui-même pour couvrir la charge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Niv 4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: idem niv 3 + modulation annuelle (équipes administratives uniquement)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050920" y="4149720"/>
            <a:ext cx="64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Tahoma"/>
              </a:rPr>
              <a:t>Les horaires participatifs favorisent :</a:t>
            </a:r>
            <a:r>
              <a:rPr b="1" lang="fr-FR" sz="2000" spc="-1" strike="noStrike">
                <a:solidFill>
                  <a:srgbClr val="009bd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  <a:p>
            <a:pPr marL="812880" indent="-81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marL="812880" indent="-812880" algn="ctr"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557440" y="1413000"/>
            <a:ext cx="532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Tahoma"/>
              </a:rPr>
              <a:t>4 Niveaux d’horaires participatifs</a:t>
            </a:r>
            <a:r>
              <a:rPr b="1" lang="fr-FR" sz="2000" spc="-1" strike="noStrike">
                <a:solidFill>
                  <a:srgbClr val="009bd2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  <a:p>
            <a:pPr marL="812880" indent="-81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653000"/>
            <a:ext cx="67690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L’</a:t>
            </a:r>
            <a:r>
              <a:rPr b="1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équité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, notamment grâce à la rédaction d’une charte d’équité par l’équipe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Une meilleure </a:t>
            </a:r>
            <a:r>
              <a:rPr b="1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conciliation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vie privée / vie professionnelle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Plus d’</a:t>
            </a:r>
            <a:r>
              <a:rPr b="1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implication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et d’</a:t>
            </a:r>
            <a:r>
              <a:rPr b="1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autonomie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du collaborateur grâce à la       compréhension de la charge à couvrir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57360"/>
            <a:ext cx="2411280" cy="2735280"/>
          </a:xfrm>
          <a:prstGeom prst="irregularSeal1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Nouveau !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Formation  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Horaires participatifs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à Lezennes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+ documents disponibles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sur LoL dans la communauté 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ahoma"/>
              </a:rPr>
              <a:t>Tac tic</a:t>
            </a:r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9" descr="fond tactic2.png"/>
          <p:cNvPicPr/>
          <p:nvPr/>
        </p:nvPicPr>
        <p:blipFill>
          <a:blip r:embed="rId1"/>
          <a:stretch/>
        </p:blipFill>
        <p:spPr>
          <a:xfrm rot="21078000">
            <a:off x="-1198440" y="-203040"/>
            <a:ext cx="3132000" cy="7519680"/>
          </a:xfrm>
          <a:prstGeom prst="rect">
            <a:avLst/>
          </a:prstGeom>
          <a:ln w="0">
            <a:noFill/>
          </a:ln>
        </p:spPr>
      </p:pic>
      <p:pic>
        <p:nvPicPr>
          <p:cNvPr id="103" name="Image 6" descr="ombre.png"/>
          <p:cNvPicPr/>
          <p:nvPr/>
        </p:nvPicPr>
        <p:blipFill>
          <a:blip r:embed="rId2"/>
          <a:stretch/>
        </p:blipFill>
        <p:spPr>
          <a:xfrm>
            <a:off x="-289080" y="620640"/>
            <a:ext cx="9541080" cy="1408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116000" y="98100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pic>
        <p:nvPicPr>
          <p:cNvPr id="105" name="Picture 4" descr="IconeTACTIC"/>
          <p:cNvPicPr/>
          <p:nvPr/>
        </p:nvPicPr>
        <p:blipFill>
          <a:blip r:embed="rId3"/>
          <a:stretch/>
        </p:blipFill>
        <p:spPr>
          <a:xfrm>
            <a:off x="8532720" y="6165720"/>
            <a:ext cx="534960" cy="5954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95280" y="6597720"/>
            <a:ext cx="11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ge </a:t>
            </a:r>
            <a:fld id="{6FB8C025-C3EE-4D21-88CC-CDCEDD04E589}" type="slidenum">
              <a:rPr b="1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-181080" y="-100080"/>
            <a:ext cx="93250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9bd2"/>
                </a:solidFill>
                <a:latin typeface="Tahoma"/>
              </a:rPr>
              <a:t>Pour vous accompagner…</a:t>
            </a:r>
            <a:endParaRPr b="0" lang="en-US" sz="36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195640" y="1844640"/>
            <a:ext cx="575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535120" y="2014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969840" y="1465200"/>
            <a:ext cx="8174160" cy="45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Tahoma"/>
                <a:ea typeface="ＭＳ Ｐゴシック"/>
              </a:rPr>
              <a:t>Former les nouveaux managers </a:t>
            </a: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66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1 Defi Tac-tic pour appréhender les grandes fonctionnalités (1h)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66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1 journée dans les cycles nationaux CS log, CGM, RPRH à Lezennes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66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1 journée pour les CSC en cycle régional ou lors de sessions nationales organisées par IDLM (4 sessions/an)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bd2"/>
              </a:solidFill>
              <a:latin typeface="Tahoma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9900"/>
                </a:solidFill>
                <a:latin typeface="Tahoma"/>
                <a:ea typeface="ＭＳ Ｐゴシック"/>
              </a:rPr>
              <a:t>Progresser dans la planification </a:t>
            </a:r>
            <a:r>
              <a:rPr b="0" lang="fr-FR" sz="1800" spc="-1" strike="noStrike">
                <a:solidFill>
                  <a:srgbClr val="404040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bd2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66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ahoma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Une communauté Tac tic sur LoL avec différents documents (book manager condensé, book gestionnaire, horaires participatifs…) et des questions réponses avec les utilisateurs.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6699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ahoma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009bd2"/>
                </a:solidFill>
                <a:latin typeface="Tahoma"/>
                <a:ea typeface="ＭＳ Ｐゴシック"/>
              </a:rPr>
              <a:t>Une console vidéo permettant de visionner par thème les grandes étapes de la planification annuelle et hebdo, mais aussi de comprendre le fonctionnement global de Tac tic.</a:t>
            </a: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bd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SignatureTACTIC"/>
          <p:cNvPicPr/>
          <p:nvPr/>
        </p:nvPicPr>
        <p:blipFill>
          <a:blip r:embed="rId1"/>
          <a:stretch/>
        </p:blipFill>
        <p:spPr>
          <a:xfrm>
            <a:off x="6012000" y="5589720"/>
            <a:ext cx="2919240" cy="93168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2"/>
          <p:cNvSpPr/>
          <p:nvPr/>
        </p:nvSpPr>
        <p:spPr>
          <a:xfrm>
            <a:off x="3894120" y="5468760"/>
            <a:ext cx="185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  <p:pic>
        <p:nvPicPr>
          <p:cNvPr id="113" name="Image 4" descr=""/>
          <p:cNvPicPr/>
          <p:nvPr/>
        </p:nvPicPr>
        <p:blipFill>
          <a:blip r:embed="rId2"/>
          <a:stretch/>
        </p:blipFill>
        <p:spPr>
          <a:xfrm>
            <a:off x="1979640" y="855720"/>
            <a:ext cx="721368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Image 5" descr=""/>
          <p:cNvPicPr/>
          <p:nvPr/>
        </p:nvPicPr>
        <p:blipFill>
          <a:blip r:embed="rId3"/>
          <a:stretch/>
        </p:blipFill>
        <p:spPr>
          <a:xfrm>
            <a:off x="2124000" y="1700280"/>
            <a:ext cx="7344000" cy="3456000"/>
          </a:xfrm>
          <a:prstGeom prst="rect">
            <a:avLst/>
          </a:prstGeom>
          <a:ln w="0">
            <a:noFill/>
          </a:ln>
        </p:spPr>
      </p:pic>
      <p:pic>
        <p:nvPicPr>
          <p:cNvPr id="115" name="Image 2" descr="fond-tac tic3.png"/>
          <p:cNvPicPr/>
          <p:nvPr/>
        </p:nvPicPr>
        <p:blipFill>
          <a:blip r:embed="rId4"/>
          <a:stretch/>
        </p:blipFill>
        <p:spPr>
          <a:xfrm>
            <a:off x="-324000" y="0"/>
            <a:ext cx="37576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124000" y="2500200"/>
            <a:ext cx="71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bd2"/>
                </a:solidFill>
                <a:latin typeface="Tahoma"/>
              </a:rPr>
              <a:t>Bonne planif à tous !</a:t>
            </a:r>
            <a:endParaRPr b="0" lang="en-US" sz="4400" spc="-1" strike="noStrike">
              <a:solidFill>
                <a:srgbClr val="009bd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06:18:05Z</dcterms:created>
  <dc:creator>Corinne Persyn (poste 8177)</dc:creator>
  <dc:description/>
  <dc:language>en-US</dc:language>
  <cp:lastModifiedBy>Coraline CACHELEUX</cp:lastModifiedBy>
  <cp:lastPrinted>2012-10-09T18:02:37Z</cp:lastPrinted>
  <dcterms:modified xsi:type="dcterms:W3CDTF">2014-11-05T16:24:24Z</dcterms:modified>
  <cp:revision>506</cp:revision>
  <dc:subject/>
  <dc:title>Ce qui change</dc:title>
</cp:coreProperties>
</file>